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352E7-B801-46FF-B70D-D954C12448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ption: s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itative: s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ference (like):ordinary quo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effective:  expert qu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rt example should go here and analysis to see if it meets cri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rt example should go here and analysis to see if it meets cri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DE69-DE5A-4F9A-BD82-DFEEF9DF3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1DFA-1AEB-41BD-A5F2-8E40C98DE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C186-3F32-40DF-A7DF-F9FE968E0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ED1B-1232-4292-9231-6AFA2B250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B5F5D-B228-4F08-B229-113BAED48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22361-5325-499F-A4A2-C3690B650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113E9-7DB2-4E07-9082-B2D9D8BD3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08B29-1F00-42BA-A21A-AD614D545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89092-5328-4580-9296-C6DBFF126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A6DB1-E00F-45D8-B440-E35F62F8B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F03C7-D038-4D47-9022-DB09EDC5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4E18-2DA1-4406-A617-DDEC2FAD4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B7E12-BFA1-4D00-9D8E-936C7B55A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AB25D-1C3E-4EAC-AB34-8966116CE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1EE2D-799B-4BEF-BD3F-03DC60516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E7BD4-16A1-4B29-AD25-8CFF6831E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BF5D1-E48A-4F75-8BC2-0FA68F523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2D1B-4D7B-4A3A-B83D-382B78C22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C7EE-9BF3-419E-B18B-43BE79423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591E-9BB6-45A7-A501-EE3597D97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22A7-0CA9-4808-ACA3-37C5935A0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E478-102D-4D48-88EF-E3EA4E6A2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1BF5-158F-41BA-BFCB-77733369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EA76-BBC2-4701-BA95-BF99FFEE5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C129E-F42F-4DF6-86EE-E628716A077B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1BE1E-1519-42EA-85C6-94E44D9CFADD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"/>
              </a:rPr>
              <a:t>Feature Arti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523880" y="32004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Palatino"/>
              </a:rPr>
              <a:t>Supporting Your ‘Big Idea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96160" y="583884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Here is an example of an author beginning a feature article with a lead that includes a quot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010280" cy="546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Palatino"/>
              </a:rPr>
              <a:t>Writing Worksh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280" y="2133720"/>
            <a:ext cx="883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Today in your writing find a place for a quote, then find the quote you might like to inclu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342900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Palatino"/>
              </a:rPr>
              <a:t>As I come around, I will be asking you how your quote supports your ‘big idea’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9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9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68580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Palatino"/>
              </a:rPr>
              <a:t>Feature article writers use facts, laws, and statistics to support their ‘big idea’ and add information to the artic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66680" y="3139920"/>
            <a:ext cx="3429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  <a:ea typeface="Osaka"/>
              </a:rPr>
              <a:t>Sometimes this information is shown in graphs or 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257800" y="3276720"/>
            <a:ext cx="220968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Palatino"/>
              </a:rPr>
              <a:t>Writing Worksh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2280" y="2133720"/>
            <a:ext cx="883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Today in your writing look for a place you might add facts, laws and/or statisti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358128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Palatino"/>
              </a:rPr>
              <a:t>As I come around, I will ask you how your choice supports your ‘big idea’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9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9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Palatino"/>
              </a:rPr>
              <a:t>Why use different types of inform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Feature article writers use many different types of information to support their ‘Big Idea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They do thi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Make the big idea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Prove the big idea is accu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Make their article more inter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Match the type of information to the type of arti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Palatino"/>
              </a:rPr>
              <a:t>What different types of information do feature article writers u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1760" y="2361960"/>
            <a:ext cx="83818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Some of the types of information used are:</a:t>
            </a: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Stories of life experiences (theirs or oth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Quotes from ordinary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Quotes from expe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Facts, laws,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1447560"/>
            <a:ext cx="8839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Palatino"/>
              </a:rPr>
              <a:t>Feature article writers decide which type of information goes with the ‘big idea’ they want to communicate to the read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Palatino"/>
              </a:rPr>
              <a:t>Stories Of Life Experi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3822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Can be very effective in helping the reader understand how the writer feels about the ‘big idea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4724280"/>
            <a:ext cx="83818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  <a:ea typeface="Osaka"/>
              </a:rPr>
              <a:t>Can help the reader gain an understanding of why the topic is so important to the wri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3352680"/>
            <a:ext cx="83818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  <a:ea typeface="Osaka"/>
              </a:rPr>
              <a:t>Can help the reader think about the ‘big idea’ and make personal conn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Palatino"/>
              </a:rPr>
              <a:t>Stories Of Life Experi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2438280"/>
            <a:ext cx="838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These stories can come from books, personal experiences, or the experiences of othe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0948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Palatino"/>
              </a:rPr>
              <a:t>Here is an example of a feature article using a life story to support a big idea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54514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Palatino"/>
              </a:rPr>
              <a:t>Writing Worksh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213372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Today in your writing, think of a personal story that might support your ‘big idea’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342900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Palatino"/>
              </a:rPr>
              <a:t>If you don’t have one yourself, who might have a story?  Where might you find o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480060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I will be asking you about your story as I come around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9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9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9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Palatino"/>
              </a:rPr>
              <a:t>Feature article writers also use quotes to support their ‘big idea’ and add important information to the artic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1760" y="2361960"/>
            <a:ext cx="83818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Quotes can be:</a:t>
            </a: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Ideas or thoughts from ordinary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Opinions from experts( sometimes these are summarized not directly quote-Dr. Smith, an important scientist believes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The expert does not have to be famous or widely recognized.  It can just be someone who is knowledgeable on the top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4T03:58:25Z</dcterms:created>
  <dc:creator>AAPS</dc:creator>
  <dc:description/>
  <dc:language>en-US</dc:language>
  <cp:lastModifiedBy>AAPS</cp:lastModifiedBy>
  <dcterms:modified xsi:type="dcterms:W3CDTF">2005-10-20T17:48:52Z</dcterms:modified>
  <cp:revision>15</cp:revision>
  <dc:subject/>
  <dc:title>FEATURE ARTICLES</dc:title>
</cp:coreProperties>
</file>